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AF3C-3880-4A4A-AAD5-AEA5CC6B6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480" y="391212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10EA-5F8F-4A5A-ADAF-0B6A55C8E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4492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E9B3-7506-4979-9946-E8581F6A1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23080" y="152388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3320" y="152388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480" y="391212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23080" y="391212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3320" y="391212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1832-0F5E-4891-AA42-A5748E2E9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4AD09-6F74-4B04-8FF0-CC2AE74D0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1C0E1-E06E-4793-8A54-7F700EAE6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58799-7C86-4274-9902-A61C1C264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FB43C-3565-4120-9890-69ED1F6ED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DF38B-62B2-4C95-BDBD-17E1604CA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CAA37-CE06-4784-92DE-90B5C0325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248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173C7-A204-47DC-8D77-F4D3C5DA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698B-8F20-4325-B947-F1DC3071B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4492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F7A9D-5B02-46EC-97F3-B89B492A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2480" y="391212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0B3D7-8E04-4FF1-BC96-9BD52966D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2480" y="391212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20B31-142C-461C-8E70-64B65BF3D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248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4492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E87C7-2C79-4C92-B168-0A22F7124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23080" y="152388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93320" y="152388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2480" y="391212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23080" y="391212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93320" y="391212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37F84-EF57-4A36-9FE1-6958B58C1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C735-FB17-445B-9E16-8C4B232C6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BB1D-73B8-4A12-81B1-0A86652DB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C15A-F94F-41E4-862B-8598C15ED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1B37-1530-4C17-B26E-B762E8953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48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91F8-2967-47A1-B0A5-4B6DC617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4492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B35E-7648-403E-B7EB-1181CB07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480" y="391212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9F78-8E7A-4EE8-9072-7DD4B026E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yriad Pro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16400" y="6400800"/>
            <a:ext cx="208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51C35-8E33-441D-A879-8D5D4C3BE2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yriad Pro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DF691-CEC5-4330-AC54-BB88FC7937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Myriad Pr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Pr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Myriad Pr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Pr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Myriad Pr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Myriad Pr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Pr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Myriad Pr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Pr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Myriad Pr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Pr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yriad Pro"/>
              </a:rPr>
              <a:t>Higher Education in the State of Alabama: Comparing and Contrasting the University of Alabama and Auburn University</a:t>
            </a:r>
            <a:endParaRPr b="1" lang="en-US" sz="40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809520" y="5105520"/>
            <a:ext cx="49532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yriad Pro"/>
              </a:rPr>
              <a:t>a presentation by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Myriad Pro"/>
              </a:rPr>
              <a:t>Patrick Douglas Crispen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yriad Pro"/>
              </a:rPr>
              <a:t>NCAA Football</a:t>
            </a:r>
            <a:endParaRPr b="1" lang="en-US" sz="40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85" name=""/>
          <p:cNvSpPr/>
          <p:nvPr/>
        </p:nvSpPr>
        <p:spPr>
          <a:xfrm>
            <a:off x="1752480" y="4191120"/>
            <a:ext cx="3429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yriad Pro"/>
              </a:rPr>
              <a:t>Alabama has w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Myriad Pro"/>
              </a:rPr>
              <a:t>12 national championships an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Myriad Pro"/>
              </a:rPr>
              <a:t>21 SEC championshi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8320" y="4648320"/>
            <a:ext cx="40384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34120" y="4191120"/>
            <a:ext cx="3429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yriad Pro"/>
              </a:rPr>
              <a:t>Auburn also has a football te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600280" y="2201760"/>
            <a:ext cx="1731960" cy="14637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981760" y="2019240"/>
            <a:ext cx="2133720" cy="1828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yriad Pro"/>
              </a:rPr>
              <a:t>The arts</a:t>
            </a:r>
            <a:endParaRPr b="1" lang="en-US" sz="40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4572000"/>
            <a:ext cx="3429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yriad Pro"/>
              </a:rPr>
              <a:t>Alabama ha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Myriad Pro"/>
              </a:rPr>
              <a:t>cul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48320" y="4648320"/>
            <a:ext cx="40384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34120" y="4648320"/>
            <a:ext cx="3352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yriad Pro"/>
              </a:rPr>
              <a:t>Auburn has agricul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552760" y="1523880"/>
            <a:ext cx="1828800" cy="28195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5334120" y="164772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yriad Pro"/>
              </a:rPr>
              <a:t>Alumni recognition</a:t>
            </a:r>
            <a:endParaRPr b="1" lang="en-US" sz="40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97" name=""/>
          <p:cNvSpPr/>
          <p:nvPr/>
        </p:nvSpPr>
        <p:spPr>
          <a:xfrm>
            <a:off x="1752480" y="4495680"/>
            <a:ext cx="34290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yriad Pro"/>
              </a:rPr>
              <a:t>Alabama graduates get reserved parking places in front of their places of employ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8320" y="4648320"/>
            <a:ext cx="40384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34120" y="4495680"/>
            <a:ext cx="34290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yriad Pro"/>
              </a:rPr>
              <a:t>So do Auburn gradu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409840" y="1523880"/>
            <a:ext cx="2114640" cy="28195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5991120" y="1523880"/>
            <a:ext cx="2114640" cy="2819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752480" y="839880"/>
            <a:ext cx="7010640" cy="5256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759280" y="6324480"/>
            <a:ext cx="301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imes New Roman"/>
              </a:rPr>
              <a:t>Image source: Patrick Cris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1T18:36:29Z</dcterms:created>
  <dc:creator>Patrick Douglas Crispen</dc:creator>
  <dc:description/>
  <cp:keywords/>
  <dc:language>en-US</dc:language>
  <cp:lastModifiedBy>Patrick Douglas Crispen</cp:lastModifiedBy>
  <dcterms:modified xsi:type="dcterms:W3CDTF">2004-11-16T22:00:58Z</dcterms:modified>
  <cp:revision>1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875731033</vt:lpwstr>
  </property>
</Properties>
</file>